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4E3-93EC-40E7-AB66-5A70675D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B3C-691F-4013-A5D6-F5A16276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321-7E59-455E-8859-1665EC91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B88-720D-4169-A787-4854904D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BB77-D29B-4D2E-9330-37138562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7CCA-53EA-40E9-9950-2D805C1E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50D7-CCE0-4815-A0DA-AF3C34BF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922B-EE5F-44B7-AC92-C2D3DE2E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88BF-08A3-4EF9-9F58-EC9BEE05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05B9-CAA6-4AC5-A07F-9A57F5DE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E2F8-191C-4A23-AAC6-B494037C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39E-C416-403E-B6D4-7AD085BD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9EEC-B509-484A-B468-BC00F13B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2D7A-BEF0-42AC-B87A-A11CF2C3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7DF4-881B-4DD9-BD61-96631CD8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9899-3703-4DF5-AC6E-023B3733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89BC-AECF-4C4B-8077-57EAE13F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C9BE3-2ED5-42E1-B2A3-ABBEB190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C3D40-C9A4-4309-A0C7-115402B4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D3A4B-FF0F-4501-985C-C57516E6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B1FA4-8E21-4A01-93C6-FAFEB5CB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4F053-8F7D-430A-9A85-1F7FB8F7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BD9-5640-4459-B474-069B5223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6125C-3459-4644-8185-9C393FA2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46ACA-205F-4B76-971C-45DD61C8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BAC34-7D10-4B86-83A8-4DD49071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CA294-55F7-4C4A-9210-C44E94B7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FF095-DDF8-4030-981D-6503C470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34CA0-B612-4BCD-ACC5-137E1561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1747B-928D-480F-8F1A-6F5AD5CA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CE9CCD-3006-400C-9E53-A429E8E5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D34B2-F90D-4E55-A29F-CED9A9A2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F7B736-175D-4F8A-8CEA-68CFF602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708-4C97-4D6B-A140-7624D909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C5F720-D698-41D5-B2C8-69CEDF71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E49474-3742-4458-BF34-F30C3C8B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47A3F8-67C2-4874-88F8-4581FE9F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654AE7-61BA-4CCA-BAB6-D2877CA7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587B83-1286-41A4-B560-37F5EFE6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074703-84A5-4CFA-B619-A67AD77F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D6AE9-2E19-455A-B83F-BD3C0B11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3BEE3E-6C0D-4F59-AA54-87FDC807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D2004-74FB-456C-A334-CDC5B923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A1FE45-2160-4621-935E-ED90418E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D1B-43E0-4AB2-86BC-65A8295C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0C23A-8FB0-4101-855C-D91E01BA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1F4CB3-793F-4209-97AB-89C7D4A8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2AD90-8E77-46FE-A11E-36D2843B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7CF111-A3BC-4665-B708-5A063823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869270-566B-4FE9-B178-7C939E23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7E989-8200-4766-9BFB-656DC7E9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89140-CFA8-4F46-96A9-26934900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045E9-3BB5-4603-B313-B5D204FE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3903E-00F8-42F1-9B0F-C6DB0DEF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75518B-7A82-4914-9099-850DF991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7B6-CD87-477C-B765-3C5F3F4E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7E64BC-135C-4B43-92D1-A06553C7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D5DF4-3D16-4C96-9CEE-2FB78AB8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A54C5-956D-4830-AC62-C3F5163C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A796B-31AC-40EA-B22D-0B56F119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0A81A-C0A4-4FB0-9E9C-2A91E992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7BD90-55C1-4030-B34F-CEB05084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5673A-571C-47FD-AAFA-28301534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B8AA8-FC06-4AE0-9D87-EB1A68E8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D6581-1F82-468B-A373-EEF01038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71B12-C67F-4A16-BC69-0B29DA0B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20E-A7EE-4231-A905-A2896157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426C4-E30F-4011-853B-AC7A4484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E0EEE-7EF8-4186-8AE6-3F59FAA6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05583-D1A0-4053-A834-92D49D71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0E35FB-9ED7-4E63-B2BC-F59B7EF2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3CC1B9-54FE-4A5A-83FB-2C2B77FD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92109C-BC33-4234-8903-BF943D9F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DEC8C-A46A-47B7-A32E-D7903119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5BBDBB-CEA7-4B92-A1E0-9E459B28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247971-1763-4921-B49C-8AD42F8C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B2C522-F61A-400E-AC69-9337EAA3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42C-C93D-4F39-B616-E6072A13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54FD9B-FC23-445A-B651-98582906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186C27-5211-4D9F-A4AA-1C3CB085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CBD31B-A8E9-4EA8-9D69-E2491F9F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F6295B-0E10-42E8-9826-6AB7947B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54EB57-16A8-4705-85F1-FCF4872F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0BED0-DDA9-4550-BB6C-373D14A0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C8EAE-9049-4CBD-8AFD-1D5CC9EB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2A3F1-13A3-4151-B718-7BC54FA3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3CA0D-3981-4EEB-B280-D30448CD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6F1DA-4740-4222-A619-727987CB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BBA2-046F-4509-B72B-A834C44E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98411-1DAF-4553-981A-680C60FC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91110-BC3F-43BB-B718-1C587E92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25598-98F1-4EFA-AACE-17E74444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E254B-7638-48A2-ABE5-C57FAAEC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EE6EC-1194-4066-A604-56F63A38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13445-92CE-4790-BC12-5B08EFE9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BFB75-FF94-4626-9A3D-AA61D34A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4C49-B084-4068-A2AB-438373B1148D}" type="slidenum">
              <a:rPr b="1" lang="en-A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39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84A1-FDF5-469F-ABCE-2DBE9D8580B0}" type="slidenum">
              <a:rPr b="1" lang="en-AU" sz="1400" spc="-1" strike="noStrike">
                <a:solidFill>
                  <a:srgbClr val="fff39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CFB0-E998-4E4D-A15D-07C7616DAF3B}" type="slidenum">
              <a:rPr b="1" lang="en-AU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A75E-3067-4949-B6FC-71E190279252}" type="slidenum">
              <a:rPr b="1" lang="en-A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9ADB-6FE7-4291-9352-7DCBA7062375}" type="slidenum">
              <a:rPr b="1" lang="en-A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6280-AD16-49D7-A88C-E95B611E2F4E}" type="slidenum">
              <a:rPr b="1" lang="en-AU" sz="1400" spc="-1" strike="noStrike">
                <a:solidFill>
                  <a:srgbClr val="575f6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C582-A1EA-40D0-8903-C0C6FCD598DA}" type="slidenum">
              <a:rPr b="1" lang="en-AU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DCFD-6F16-46C7-B95D-D60C53C62AB2}" type="slidenum">
              <a:rPr b="1" lang="en-A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blogs.digitalmediaonlineinc.com/TechUniverse/resource/apple-logo1.jpg&amp;imgrefurl=http://blogs.digitalmediaonlineinc.com/TechUniverse/entry/200811043&amp;usg=__FDMjp7274VP8_9YpPAOHmZXIxGs=&amp;h=480&amp;w=397&amp;sz=22&amp;hl=en&amp;start=1&amp;tbnid=HhYIr-Oz_5sLkM:&amp;tbnh=129&amp;tbnw=107&amp;prev=/images%3Fq%3Dapple%26gbv%3D2%26hl%3D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.au/imgres?imgurl=http://www.orchard-square.co.uk/imagery/news/uploads/Body_Shop_Logo_Sml.JPG&amp;imgrefurl=http://www.orchard-square.co.uk/newsdetails.asp%3Fid%3D167&amp;usg=__jx4THo-HZ29jfLBTRyXw-Orgh0w=&amp;h=194&amp;w=194&amp;sz=11&amp;hl=en&amp;start=9&amp;tbnid=xkxDxkJlwW4HgM:&amp;tbnh=103&amp;tbnw=103&amp;prev=/images%3Fq%3Dbody%2Bshop%2Blogo%26gbv%3D2%26hl%3Den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eblogs.newsday.com/news/local/longisland/politics/blog/dollars.gif&amp;imgrefurl=http://weblogs.newsday.com/news/local/longisland/politics/blog/suffolk/&amp;usg=__KFZS77psMlrOYRShuqYJJ6IWg3M=&amp;h=458&amp;w=428&amp;sz=14&amp;hl=en&amp;start=2&amp;tbnid=5IoVWEKb4TdTfM:&amp;tbnh=128&amp;tbnw=120&amp;prev=/images%3Fq%3Ddollars%26gbv%3D2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internetservices.readingeagle.com/blog/fashion/salvation-army-logo.jpg&amp;imgrefurl=http://internetservices.readingeagle.com/blog/fashion/in_the_community/&amp;usg=__QQVhD7vQoNH-ZCxeWgyTFgSXSqM=&amp;h=292&amp;w=250&amp;sz=78&amp;hl=en&amp;start=2&amp;tbnid=No1suXTM96TYXM:&amp;tbnh=115&amp;tbnw=98&amp;prev=/images%3Fq%3Dsalvation%2Barmy%2Blogo%26gbv%3D2%26hl%3D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.au/imgres?imgurl=http://www.asecondopinion.com.au/images/logos/CBA_Logo.jpg&amp;imgrefurl=http://www.asecondopinion.com.au/credentials.php&amp;usg=__hnSJiGmIWKgBNdCAL4Ps_Xu_drw=&amp;h=1036&amp;w=1452&amp;sz=73&amp;hl=en&amp;start=1&amp;tbnid=daLy7r08Ny4MXM:&amp;tbnh=107&amp;tbnw=150&amp;prev=/images%3Fq%3Dcommonwealth%2Bbank%2Blogo%26gbv%3D2%26hl%3De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oma.on.ca/membership/resources/BHPBilliton%2520Logo.jpg&amp;imgrefurl=http://www.oma.on.ca/membership/membershiplist.asp&amp;usg=__IGb9wEsg3k8XTglXILn0xAjHQDA=&amp;h=275&amp;w=438&amp;sz=14&amp;hl=en&amp;start=1&amp;tbnid=glsZikxZ_OsqYM:&amp;tbnh=80&amp;tbnw=127&amp;prev=/images%3Fq%3Dbhp%2Bbilliton%2Blogo%26gbv%3D2%26hl%3D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42680" y="2071800"/>
            <a:ext cx="542916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39d"/>
                </a:solidFill>
                <a:latin typeface="Tw Cen MT"/>
              </a:rPr>
              <a:t>LARGE SCALE ORGANISATIONS</a:t>
            </a:r>
            <a:endParaRPr b="0" lang="en-US" sz="54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w Cen MT"/>
              </a:rPr>
              <a:t>Chapter 1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5" descr="http://tbn0.google.com/images?q=tbn:HhYIr-Oz_5sLkM:http://blogs.digitalmediaonlineinc.com/TechUniverse/resource/apple-logo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72200" y="142920"/>
            <a:ext cx="1643040" cy="19810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http://tbn3.google.com/images?q=tbn:xkxDxkJlwW4HgM:http://www.orchard-square.co.uk/imagery/news/uploads/Body_Shop_Logo_Sm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4357800"/>
            <a:ext cx="15004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Negative Effects of LSOs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24000" y="14130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67840" indent="-2678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Heartless, self-seeking organisations (too big and don’t care or too big to manage themselves effectively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Best employees/managers taken from Australia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ake jobs off-shore creating unemployment in Austral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Profits generated in Australia leave the countr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reate Balance of Payments problems for Austral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ustralia exposed to the impact of overseas probl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onopolies “killing small business” and ripping-off consum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Operating environments of LSOs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Internal 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– People, resources, processes, culture, policy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Operating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 – Customers, suppliers, employees, competitors, creditors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Macro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 – Economic, social, technological, political, environmental, Legal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n-AU" sz="2900" spc="-1" strike="noStrike">
                <a:solidFill>
                  <a:srgbClr val="000000"/>
                </a:solidFill>
                <a:latin typeface="Tw Cen MT"/>
              </a:rPr>
              <a:t>Apply each of these environments to a LSO of your choi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Stakeholders in LSO’s 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 person or group with an interest or stake in how a business operates. Includ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mploye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Un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harehold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wn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ustomers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Measuring organisational performanc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Efficiency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: the best use of resources (time, money, labour) of an organisation to achieve organisational objectiv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Productivity: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 quantitative measure of the relationship between resource inputs and outputs; a way to measure efficiency of the business. (More output for the same level of resource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Effectiveness: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 extent to which the organisation chooses appropriate objectives and achieves these objectiv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 </a:t>
            </a:r>
            <a:br>
              <a:rPr sz="4400"/>
            </a:b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KPIs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pecific criteria used to measure effectiveness and efficiency. Can be qualitative or quantitative.  Can be financial and non-financi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Financial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Prof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Return on Investment (shareholder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ost Contro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Return on asse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KPI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Non-Financial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ustomer satisfa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taff turnov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afety recor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raining rec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qualit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How could each of these be measured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Characteristics of LSOs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w Cen MT"/>
              </a:rPr>
              <a:t>Number of employees &gt;200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w Cen MT"/>
              </a:rPr>
              <a:t>Total Assets &gt;$200 millio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w Cen MT"/>
              </a:rPr>
              <a:t>Annual Sales Revenue – in the million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w Cen MT"/>
              </a:rPr>
              <a:t>Extent of operations – transnational (but can be interstate only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5" descr="http://tbn1.google.com/images?q=tbn:5IoVWEKb4TdTfM:http://weblogs.newsday.com/news/local/longisland/politics/blog/dollar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4437000"/>
            <a:ext cx="16430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Types of LSOs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Corporations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– can have private shareholders or be listed on the stock exchang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Govt. Business Enterprises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– Owned by Govt and sometimes shareholders to provide a service but also make a profit eg. Aust Post, Medica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Govt Depts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– provide service, no profit eg. Taxation office, Centrelink, Def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Charities/Foundations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– provide assistance to those in need. Eg Salv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5" descr="http://tbn0.google.com/images?q=tbn:No1suXTM96TYXM:http://internetservices.readingeagle.com/blog/fashion/salvation-army-log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5429160"/>
            <a:ext cx="933480" cy="1095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http://tbn2.google.com/images?q=tbn:daLy7r08Ny4MXM:http://www.asecondopinion.com.au/images/logos/CBA_Log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00840" y="0"/>
            <a:ext cx="14288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Types of LSO’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Can you think of some more examples  for each of these classifications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Corporatio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w Cen MT"/>
              </a:rPr>
              <a:t>Public Compani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w Cen MT"/>
              </a:rPr>
              <a:t>Private Compani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GBE’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Govt Dep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Charities/Foundatio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Classifications of LSOs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Primary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 – draw directly from natu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Secondary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 – transform raw materials into goods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Tertiary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 – sell the goods, provide  a service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Quaternary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 – provision of information eg. Newspapers, banks, education, postal servic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w Cen MT"/>
              </a:rPr>
              <a:t>Quinary</a:t>
            </a:r>
            <a:r>
              <a:rPr b="0" lang="en-AU" sz="3200" spc="-1" strike="noStrike">
                <a:solidFill>
                  <a:srgbClr val="000000"/>
                </a:solidFill>
                <a:latin typeface="Tw Cen MT"/>
              </a:rPr>
              <a:t> – provision of paid and voluntary domestic services. Eg. Hotels, child care, restaurants etc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5" descr="http://tbn1.google.com/images?q=tbn:glsZikxZ_OsqYM:http://www.oma.on.ca/membership/resources/BHPBilliton%2520Log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6720" y="214200"/>
            <a:ext cx="16430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Classifications of LSOs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an you think of some further examples for the following industri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Prima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Seconda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Tertia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Quaternary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Quinary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Management functions in LSO’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r’s job is to plan and co-ordinate resources and activities of an organisation to ensure that it achieves the goals and objectives defined by the board of director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Four main economic resourc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and/physical resources: equipment, raw materi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abour/Human resour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apital/Financial resour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Knowledge/information resour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75f6d"/>
                </a:solidFill>
                <a:latin typeface="Tw Cen MT"/>
              </a:rPr>
              <a:t>Management functions in LSO’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nagement function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perations management (Production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HR management (Personnel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Financial management and adm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rketing/sales manag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Research &amp; Develop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nformation technolog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2" name="Picture 2" descr="http://tbn2.google.com/images?q=tbn:PIhCwqIwuAhlcM:http://bp2.blogger.com/_96Cakrk8REc/R1AhCF9kn4I/AAAAAAAAAeE/28NKqVP8YzE/s1600-R/david_brent.jpg"/>
          <p:cNvPicPr/>
          <p:nvPr/>
        </p:nvPicPr>
        <p:blipFill>
          <a:blip r:embed="rId1"/>
          <a:stretch/>
        </p:blipFill>
        <p:spPr>
          <a:xfrm>
            <a:off x="6443640" y="3500280"/>
            <a:ext cx="227952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575f6d"/>
                </a:solidFill>
                <a:uFillTx/>
                <a:latin typeface="Tw Cen MT"/>
              </a:rPr>
              <a:t>Economic Contribution of LSOs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24000" y="1413000"/>
            <a:ext cx="8820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Provision of employment and income for Australia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conomies of scale –incur lower costs per unit of output because they are big. Government benefits/concess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nvest in and improve Australia’s industrial base – factories, machinery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R&amp;D – innovation, new products, best practi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Export Earnings – bringing in $$ from oversea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Support the community and the disadvantag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5" name="Picture 5" descr="http://tbn1.google.com/images?q=tbn:zi1xg0DROnTECM:http://www.clima.org.cn/UserFiles/Image/bottling%2520production%2520line.bmp"/>
          <p:cNvPicPr/>
          <p:nvPr/>
        </p:nvPicPr>
        <p:blipFill>
          <a:blip r:embed="rId1"/>
          <a:stretch/>
        </p:blipFill>
        <p:spPr>
          <a:xfrm>
            <a:off x="6588000" y="5445000"/>
            <a:ext cx="22147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2:56:38Z</dcterms:created>
  <dc:creator>lda</dc:creator>
  <dc:description/>
  <dc:language>en-US</dc:language>
  <cp:lastModifiedBy>Ern Reichelt</cp:lastModifiedBy>
  <dcterms:modified xsi:type="dcterms:W3CDTF">2011-02-11T04:53:15Z</dcterms:modified>
  <cp:revision>22</cp:revision>
  <dc:subject/>
  <dc:title>Operations management</dc:title>
</cp:coreProperties>
</file>